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5F4-C43C-4044-9696-6D46DCCE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675-4362-46EC-893A-1E6DB807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D4E-ABCE-43D3-886A-D95EC56B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F1B-F8B2-41D9-9933-779BEDF5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6F5-4553-4A3C-B1AA-FF08AA7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443-50C4-4D75-8D79-F696C90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AF4-6444-4E23-811D-6F866A31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F4A-40A6-4386-A7B0-4E4A182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4F5-13BC-41D9-BE6D-E306AD98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885-4173-4161-B95C-3C84E8C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84F-2846-45F9-88AB-CA586DD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D81-C062-42ED-89FD-171BF7C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E9DF-8975-490E-B851-532CB4FC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bu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a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buggers allow single steps so program progress can be followed. (check for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discrepancy occurs you are close to a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programs are not checked – so do not step throug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e use of a debugg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ymptoms of a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ke hypothesis about where it lies (which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lace breakpoints at both entry and exit of suspect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un the program – stop a breakpoint – inspect values of variables – at exit re-inspect values. Identify the method within which the bug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-run the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tep through erroneous method – find discrep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you have found the b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err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ilation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lons – most common, flagged by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s – must have bracket (parenthesis) surrounding boolean condi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a = = b) …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ly brackets (braces) common to leave a brace out { } or put them in wrong place. Indentation helpful to easily find correct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calling with zer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do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:  objectdoI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calling with name incorrect, wrong number, type, order in call, input missing, wrong or missing library (Swing components espec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missing JFrame, needed in most of the programs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access an element not in the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[ ] table = new int 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ing to acces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– remember start with zero.  So 0..9 legal, 10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thmetic 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zero (see chapter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 pointer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 butt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(bu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pointer exception because no instance created ( no ‘new’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err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errors hardest to 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– Java automatically sets int to zero but this may not be what programmer wanted. Best to explicitly initalize al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– You click a button and nothing happe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have failed to provide handling for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errors – misunderstanding the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looks healthy but is not working as expect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a &gt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x +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y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z +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braces – if only does  x = x + a. program indentation seems to indicate it was supposed to do y = y + b also if ‘tru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= =  test for equality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the assignment  =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a = b) … // alway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a = = b) … //probably what was 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ty Part Tw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s = = “abc”) …shoul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s.equals (“abc”) ) … to test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errors that occur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: The Java compiler carries out a comprehensive series of checks on a program (syntax-check,) once a program is free of errors the program usually does something visible – it may not do exactly what you want (may still have logic erro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init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( a = = 0); // semicolon keeps while looping forever (time out will eventually occ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– find errors and fix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ava development systems provide a ‘debugg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akepoint – a place wher program temporarily stops so inspection of values of variables may be per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tep (shotting) – watch execution one line (instruction)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both library and user written linked when called while program is running. Checks made at compile time that all methods exist and parameters match in number and type – linking errors are detected at compil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 tim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rrors in a running program may be an array index error – or a program may produce unexpected behavior (bug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may not work as expected. Bugs must be found and eliminated. Systematic testing needs to be done (see chapter 2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debug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 the source of a problem in a program that runs but behaves unexpec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“X-ray specs” to gain in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obtain the additional information is to insert extra output statements to display information as the program r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the balloon class (from chapter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a balloon is not displayed – or it displays in the wrong pla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in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Dialog( null, “ x = “ + “ y = “ y + “diameter = “ + diamet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contents of the variables at ru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ck: choose the best places in the program to insert the Option p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pla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before a method is called and just after (to see if work expected has been don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 does not reference a particular development package (IDE) none are standard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a window created by the running program (outpu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splay of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splay of names of selected variables with cur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ce where execution stops. Inserted by programmer testing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er highlights which breakpoint has been reached – a display of values of variables is ‘frozen’ so any discrepancies (actual value held vs. expected) may be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8:50:03Z</dcterms:created>
  <dc:creator> </dc:creator>
  <dc:description/>
  <dc:language>en-US</dc:language>
  <cp:lastModifiedBy> </cp:lastModifiedBy>
  <dcterms:modified xsi:type="dcterms:W3CDTF">2005-05-11T19:35:39Z</dcterms:modified>
  <cp:revision>4</cp:revision>
  <dc:subject/>
  <dc:title>Debugging Chapter 21</dc:title>
</cp:coreProperties>
</file>